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621240" y="-1440"/>
            <a:ext cx="276840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-360" y="824076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479468C-74D3-4BD0-9FE2-2D9A7FBC8D37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610000" y="82612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06AC780E-DD3D-4535-A9AA-D5212E2AB5C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03320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968B84F-E545-454D-B1A1-43E3DE03A314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407276D-FA71-4C45-9F65-C552D8D4CF0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FB425FC-8CF2-427F-8E22-FF45C96F996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99A4BE6-191A-48CF-B4C7-7EDF4CEAA175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FF76890-F61A-45A9-B648-E2B80824EE47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CDF1426-F9F2-4DAE-91F7-11687FB3D994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94F038F-4231-45E5-97DD-4545DA1ABBE2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2100A13-0568-45B5-9702-4DEB658368A7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042920" y="665280"/>
            <a:ext cx="4299120" cy="32241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16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F28F1CF5-44F0-425A-BD7B-E07780BF7C62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47949E3F-A076-46B0-AA18-DDC5905AAF09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04480" y="888480"/>
            <a:ext cx="80391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 R3: Defect Analysis Repor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requirements for report R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how to use the R3 defect analysis spreadshe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your R3 defect data to estimate defect density and defect fix tim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42840" y="509400"/>
            <a:ext cx="77011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01360" y="1450800"/>
            <a:ext cx="76770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s of the defect analysis report are to help you understand t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sity and types of defects introduced and found while developing pro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rtance of carefully gathering, recording, and reporting process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R3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13960" y="1450800"/>
            <a:ext cx="78930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 the defects found in developing the initial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 a report that includes these tab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dens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ile and test phase defect densit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defect fix time by phase injected and remo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 formats are described in tables D20, D21, and D22 in Appendix D, pages 770-77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data in tables D20-D22 to complete the exercise ques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eparing Report R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14320" y="1450800"/>
            <a:ext cx="79437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uidelines for preparing the defect analysis tables are in Appendix 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ables can be manually produced by following the task description in Appendix 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support for producing the R3 tables is available in the SEI PSP student workbook, R3 tab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data in the R3 tables to complete the R3 exercise ques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1523880" y="1498680"/>
            <a:ext cx="6235920" cy="496548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4"/>
          <p:cNvSpPr/>
          <p:nvPr/>
        </p:nvSpPr>
        <p:spPr>
          <a:xfrm>
            <a:off x="438120" y="1305000"/>
            <a:ext cx="1204920" cy="1109520"/>
          </a:xfrm>
          <a:prstGeom prst="rightArrow">
            <a:avLst>
              <a:gd name="adj1" fmla="val 75009"/>
              <a:gd name="adj2" fmla="val 19020"/>
            </a:avLst>
          </a:prstGeom>
          <a:solidFill>
            <a:srgbClr val="33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ect density tabl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9" name="AutoShape 5"/>
          <p:cNvSpPr/>
          <p:nvPr/>
        </p:nvSpPr>
        <p:spPr>
          <a:xfrm flipH="1">
            <a:off x="7655040" y="1298520"/>
            <a:ext cx="1355760" cy="1438200"/>
          </a:xfrm>
          <a:prstGeom prst="rightArrow">
            <a:avLst>
              <a:gd name="adj1" fmla="val 75009"/>
              <a:gd name="adj2" fmla="val 17514"/>
            </a:avLst>
          </a:prstGeom>
          <a:solidFill>
            <a:srgbClr val="33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ile and test defects table 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0" name="AutoShape 6"/>
          <p:cNvSpPr/>
          <p:nvPr/>
        </p:nvSpPr>
        <p:spPr>
          <a:xfrm flipH="1">
            <a:off x="5685840" y="4543560"/>
            <a:ext cx="1657080" cy="780120"/>
          </a:xfrm>
          <a:prstGeom prst="rightArrow">
            <a:avLst>
              <a:gd name="adj1" fmla="val 75009"/>
              <a:gd name="adj2" fmla="val 37202"/>
            </a:avLst>
          </a:prstGeom>
          <a:solidFill>
            <a:srgbClr val="33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ect fix times table 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42480" y="509400"/>
            <a:ext cx="781524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 Defect Analysis Tabl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3 Exercise Ques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14320" y="1450800"/>
            <a:ext cx="79437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line TSP productivity data suggests that an engineer can produce up to 10,000 LOC per year.  Using the data from the R3 tab in your student workbook, determ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-date defects/K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total defects for 10,000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-date compiler defects/K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number of compile defects for 10,000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fix time for defects found in comp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compile fix time for 10,000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-date test defects/K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number of test defects for 10,000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fix time for defects found in t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 test fix time for 10,000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01360" y="1450800"/>
            <a:ext cx="76770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report must incl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analysis tables D20-D2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d R3 exercise ques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8-30T17:49:38Z</cp:lastPrinted>
  <dcterms:modified xsi:type="dcterms:W3CDTF">2018-09-06T00:17:05Z</dcterms:modified>
  <cp:revision>64</cp:revision>
  <dc:subject/>
  <dc:title>No Slide Title</dc:title>
</cp:coreProperties>
</file>